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12.png" ContentType="image/png"/>
  <Override PartName="/ppt/media/image7.wmf" ContentType="image/x-wmf"/>
  <Override PartName="/ppt/media/image10.jpeg" ContentType="image/jpeg"/>
  <Override PartName="/ppt/media/image8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E4D08-B968-49C7-9955-06E5909E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00780-5377-4BAD-AD7B-EE964FCA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958BF-D5AF-49C3-8D0C-B69182C8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A648A-05AD-408F-892D-3F54C178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32AC-FC8E-44F7-BF66-6558E0AE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C263-96D8-4F40-9A30-4F7162AF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76F8-0BAA-42A7-8F8F-47B4B0EC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D455-2FED-4B99-96A7-98F91977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CDB70-B77F-4676-B348-9F52F0D9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2007-FCEB-434D-B537-E85D8F6F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FC0D-C120-49C9-B162-BD47EC37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8511B-082B-46D5-B346-74665B8D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8F67-6EBC-4B75-9F49-A2CEFC55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F71E-B77F-4460-B511-366F20E4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7589-FA52-42D8-AC82-6AB6EBFD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7B35-35D6-4B3D-89D3-37DA317D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3AC9-E121-4752-A1B7-9D922318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5C842-287D-4205-B10F-02093843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B969B-1BA0-4559-973B-50756244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49537-45C0-4F54-863C-3C1281AA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37FE2-86DA-4CB3-BBBE-F92C0962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02566-D739-48CA-9E02-524C88B1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AF93F-D1E9-4A83-AA81-D30408F6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34EBD-8886-4DD8-B9F9-42EDE3B7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18875-D767-4CDD-970B-330721AC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29F45-8AF5-42C0-A232-99A2EEBD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0EF68-835A-48AF-BB91-6E8E4EE9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4C7E8-10BC-4301-8BB1-BF677F63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984A5-B44F-425B-B932-08B098DE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CAE60-CA6E-40D5-841C-91B210519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2B0A0-206B-4DE9-ACB6-992FD8C8A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602E6-E6AA-49D6-BCB9-DAA2E935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54CF0-AF38-442D-8BF2-A919052A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ADCAB-C32B-4AA2-A7BD-E8832D6A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581CA-3E53-4F85-B7FF-531E02E4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492A1-3D59-4EE2-93B6-7F5F35062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FA613-E0D4-4BF7-A8CC-D7663F05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B8909-DCE8-401E-88DE-0224D42B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AD4DD-AB06-4F3C-83FF-88426433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F4DA4-A53C-46B0-97E1-1FB79994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D8896-D191-4952-A53E-CD0C97E7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74C7D-213A-4C58-ABC0-62509369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3F483-C198-40D0-B090-24AA8AAF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411B9-4292-41D1-9B0A-BA054BED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8A67F-C822-4E8C-9569-E5F727AB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E8E96-92A4-4500-A097-AAA69D86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1FA10-40D5-4435-B8FA-A3A7B84F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5FBEA-101B-490B-810E-0061B135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85CFA-6EE9-43CA-8926-56EBBDC3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979EC-D935-4389-B9E9-2285B311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FE8F4-9A88-4528-9A2C-D94D8B09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B3086-68E5-413D-A05D-03ED5DCC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F6346-4B2D-4C70-B62C-7DA84987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3E6C1-C755-4BFD-9400-997A2FB7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0CBFF-C8D8-4247-8F0D-DD4F193F0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1BB84-8116-4890-A050-ABA89024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8F941-E00B-4A82-AC17-B2F8C5F7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6B44E-9285-4085-A740-9C16E1D9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A5C8C-D278-49F0-89AF-0A5A59BB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A5A69-1C24-473A-9AEC-1E45D43E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4A6C8-CCEB-4237-9DF7-170EE101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211D4-1769-4761-A8A3-85F87D4B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F8840-0A87-44EF-BDE1-3C65E705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8A92B-ADC5-4214-BCCD-EAD6EBB7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91175-56B7-47C1-9E6F-B568E45C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03B5E-93F5-491E-9B07-F0095B3B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63E2D-1165-46C0-B037-1DFE5EF5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39A60-65B7-478A-BFB8-5547FFE8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C1966-B1BF-498F-B6C0-F434852A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44038-3034-42CB-AA15-2EF96CF7D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6C122-3CB6-4B69-890B-FBF6EDA5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0ADBB-511D-48A0-8002-01E7AC48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00B0-0E19-41BB-B4D9-A88CBDDA7F7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E4C7-3D5D-4FCD-8358-F354A02E928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27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31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56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A23D-EBB0-45A8-B8E5-C43202471FC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05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09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A544-1D34-49CE-9C31-6564A2806BA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9991-E1D6-459F-B29F-5BE5250364C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9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1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2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2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2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38B4-143E-4E2C-806B-9D44806A572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7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7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8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8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referat.ro/" TargetMode="External"/><Relationship Id="rId2" Type="http://schemas.openxmlformats.org/officeDocument/2006/relationships/hyperlink" Target="http://www.referat.ro/" TargetMode="External"/><Relationship Id="rId3" Type="http://schemas.openxmlformats.org/officeDocument/2006/relationships/hyperlink" Target="http://www.referat.ro/" TargetMode="External"/><Relationship Id="rId4" Type="http://schemas.openxmlformats.org/officeDocument/2006/relationships/hyperlink" Target="http://www.referat.ro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ro.wikipedia.org/wiki/Platon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059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i="1" lang="en-US" sz="6000" spc="-1" strike="noStrike">
                <a:solidFill>
                  <a:srgbClr val="ffff00"/>
                </a:solidFill>
                <a:latin typeface="Tahoma"/>
              </a:rPr>
              <a:t>ZIUA MONDIALĂ A EDUCAŢIEI</a:t>
            </a:r>
            <a:r>
              <a:rPr b="1" lang="en-US" sz="60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ahoma"/>
              </a:rPr>
              <a:t>WORLD TEACHERS’ DA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JOURNEE MONDIALE     DES ENSEIGNAN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2590920" y="726120"/>
            <a:ext cx="6553080" cy="55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o-RO" sz="3200" spc="-1" strike="noStrike">
                <a:solidFill>
                  <a:srgbClr val="000000"/>
                </a:solidFill>
                <a:latin typeface="Tahoma"/>
              </a:rPr>
              <a:t>În 1994, UNESCO a inaugurat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o-RO" sz="3200" spc="-1" strike="noStrike">
                <a:solidFill>
                  <a:srgbClr val="000000"/>
                </a:solidFill>
                <a:latin typeface="Tahoma"/>
              </a:rPr>
              <a:t>prima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o-RO" sz="3200" spc="-1" strike="noStrike">
                <a:solidFill>
                  <a:srgbClr val="000000"/>
                </a:solidFill>
                <a:latin typeface="Tahoma"/>
              </a:rPr>
              <a:t>ZI MONDIALĂ A EDUCATORILOR, pentru a comemora semnarea, în 1966, a recomandării făcute de UNESCO şi ORGANIZAŢIA INTERNAŢIONALĂ A MUNCII privind condiţiile de muncă ale personalului didactic. Această zi se sărbătoreşte în data de </a:t>
            </a:r>
            <a:r>
              <a:rPr b="1" i="1" lang="ro-RO" sz="3200" spc="-1" strike="noStrike">
                <a:solidFill>
                  <a:srgbClr val="ffff00"/>
                </a:solidFill>
                <a:latin typeface="Tahoma"/>
              </a:rPr>
              <a:t>5 octombrie</a:t>
            </a:r>
            <a:r>
              <a:rPr b="1" i="1" lang="ro-RO" sz="3200" spc="-1" strike="noStrike">
                <a:solidFill>
                  <a:srgbClr val="000000"/>
                </a:solidFill>
                <a:latin typeface="Tahoma"/>
              </a:rPr>
              <a:t> în peste 200 de ţări.</a:t>
            </a:r>
            <a:r>
              <a:rPr b="1" lang="ro-RO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3048120" y="304920"/>
            <a:ext cx="60958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Cetăţenia Uniunii Europene oferă drepturi cetăţenilor statelor membre şi consolidează protecţia intereselor acestora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Strategia pentru educaţie 2020 a fost formulată de Comisia Europeană și aprobată de Parlamentul Europea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Peste 40% din tineri cu facultate în 10 ani şi reducerea numărului de absolvenţi de doar 8 clase reprezintă obiective dificile pentru mai multe state europene, între care şi Români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ături de România, printre statele cu probleme în îndeplinirea acestor obiective se numără Bulgaria şi Ungar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 txBox="1"/>
          <p:nvPr/>
        </p:nvSpPr>
        <p:spPr>
          <a:xfrm>
            <a:off x="0" y="228600"/>
            <a:ext cx="8915400" cy="662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umărati carţile din bibliotecă 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puneţi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aca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ţi citit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na acum , atâtea carţi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8487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006600"/>
                </a:solidFill>
                <a:latin typeface="Comic Sans MS"/>
              </a:rPr>
              <a:t>De ce o zi consacrată cadrelor didactice - educatori, învăţători sau profesori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6600"/>
                </a:solidFill>
                <a:latin typeface="Times New Roman"/>
              </a:rPr>
              <a:t>Pentru că ei contribuie în mod esenţial la dezvoltarea unei ţări, asigurând transmiterea de cunoştinţe. Ei joacă, de asemenea, un rol civic de mare importanţă, contribuind la păstrarea coeziunii sociale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6600"/>
                </a:solidFill>
                <a:latin typeface="Times New Roman"/>
              </a:rPr>
              <a:t>UNESCO a creat această zi pentru a atrage atenţia anumitor guverne asupra condiţiilor rele de muncă în care cadrele didactice îşi desfăşoară activitatea, asupra salariilor mici ale acestor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00"/>
                </a:solidFill>
                <a:latin typeface="Tahoma"/>
              </a:rPr>
              <a:t>Şcoala n-ar trebui să fie o magazie de cunoştinţe străine”, ci ar trebui „să fie orientată spre dezvoltarea calităţilor personalităţii, adică spre un învăţământ educativ”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533520" y="2147760"/>
          <a:ext cx="6324480" cy="4743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47760"/>
                    <a:ext cx="6324480" cy="47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Mesaj din partea elevilo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703dff"/>
                </a:solidFill>
                <a:latin typeface="Comic Sans MS"/>
              </a:rPr>
              <a:t>În această zi</a:t>
            </a:r>
            <a:r>
              <a:rPr b="1" i="1" lang="ro-RO" sz="4000" spc="-1" strike="noStrike">
                <a:solidFill>
                  <a:srgbClr val="ff0000"/>
                </a:solidFill>
                <a:latin typeface="Comic Sans MS"/>
              </a:rPr>
              <a:t> le urăm învăţătorilor şi profesorilor noştri un sincer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i="1" lang="ro-RO" sz="4000" spc="-1" strike="noStrike">
                <a:solidFill>
                  <a:srgbClr val="990099"/>
                </a:solidFill>
                <a:latin typeface="Comic Sans MS"/>
              </a:rPr>
              <a:t>“</a:t>
            </a:r>
            <a:r>
              <a:rPr b="1" i="1" lang="ro-RO" sz="4000" spc="-1" strike="noStrike">
                <a:solidFill>
                  <a:srgbClr val="990099"/>
                </a:solidFill>
                <a:latin typeface="Comic Sans MS"/>
              </a:rPr>
              <a:t>LA MULŢI ANI !”,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ro-RO" sz="4000" spc="-1" strike="noStrike">
                <a:solidFill>
                  <a:srgbClr val="ff0000"/>
                </a:solidFill>
                <a:latin typeface="Comic Sans MS"/>
              </a:rPr>
              <a:t>le mulţumim pentru grija ce ne-o poartă, promiţându-le că vom fi mai ascultători  şi vom </a:t>
            </a:r>
            <a:r>
              <a:rPr b="1" i="1" lang="en-US" sz="40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i="1" lang="ro-RO" sz="4000" spc="-1" strike="noStrike">
                <a:solidFill>
                  <a:srgbClr val="ff0000"/>
                </a:solidFill>
                <a:latin typeface="Comic Sans MS"/>
              </a:rPr>
              <a:t>învăţa mai bin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 txBox="1"/>
          <p:nvPr/>
        </p:nvSpPr>
        <p:spPr>
          <a:xfrm>
            <a:off x="2743200" y="2666880"/>
            <a:ext cx="3505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Educat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 txBox="1"/>
          <p:nvPr/>
        </p:nvSpPr>
        <p:spPr>
          <a:xfrm>
            <a:off x="0" y="2971800"/>
            <a:ext cx="8534520" cy="346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Va multumrsc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entru atent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685440" y="38088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Script MT Bold"/>
              </a:rPr>
              <a:t>Voi spune lucruri grave</a:t>
            </a:r>
            <a:r>
              <a:rPr b="0" lang="en-US" sz="4000" spc="-1" strike="noStrike">
                <a:solidFill>
                  <a:srgbClr val="ff3300"/>
                </a:solidFill>
                <a:latin typeface="Script MT Bold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Script MT Bold"/>
              </a:rPr>
              <a:t> </a:t>
            </a:r>
            <a:r>
              <a:rPr b="1" lang="en-US" sz="3600" spc="-1" strike="noStrike">
                <a:solidFill>
                  <a:srgbClr val="993300"/>
                </a:solidFill>
                <a:latin typeface="Script MT Bold"/>
              </a:rPr>
              <a:t>Dar perfect adevarate.</a:t>
            </a:r>
            <a:r>
              <a:rPr b="0" lang="en-US" sz="3600" spc="-1" strike="noStrike">
                <a:solidFill>
                  <a:srgbClr val="ff3300"/>
                </a:solidFill>
                <a:latin typeface="Script MT Bol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Script MT Bold"/>
              </a:rPr>
              <a:t>     </a:t>
            </a:r>
            <a:r>
              <a:rPr b="1" lang="en-US" sz="2800" spc="-1" strike="noStrike">
                <a:solidFill>
                  <a:srgbClr val="0000cc"/>
                </a:solidFill>
                <a:latin typeface="Script MT Bold"/>
              </a:rPr>
              <a:t>Ele se adreseaz</a:t>
            </a:r>
            <a:r>
              <a:rPr b="1" lang="ro-RO" sz="2800" spc="-1" strike="noStrike">
                <a:solidFill>
                  <a:srgbClr val="0000cc"/>
                </a:solidFill>
                <a:latin typeface="Script MT Bold"/>
              </a:rPr>
              <a:t>ă</a:t>
            </a:r>
            <a:r>
              <a:rPr b="1" lang="en-US" sz="2800" spc="-1" strike="noStrike">
                <a:solidFill>
                  <a:srgbClr val="0000cc"/>
                </a:solidFill>
                <a:latin typeface="Script MT Bold"/>
              </a:rPr>
              <a:t> celor care au urechi de auz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Script MT Bold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Script MT Bold"/>
              </a:rPr>
              <a:t>Ceilalti, s</a:t>
            </a:r>
            <a:r>
              <a:rPr b="1" lang="ro-RO" sz="2800" spc="-1" strike="noStrike">
                <a:solidFill>
                  <a:srgbClr val="ff3300"/>
                </a:solidFill>
                <a:latin typeface="Script MT Bold"/>
              </a:rPr>
              <a:t>ă</a:t>
            </a:r>
            <a:r>
              <a:rPr b="1" lang="en-US" sz="2800" spc="-1" strike="noStrike">
                <a:solidFill>
                  <a:srgbClr val="ff3300"/>
                </a:solidFill>
                <a:latin typeface="Script MT Bold"/>
              </a:rPr>
              <a:t> nu le asculte</a:t>
            </a:r>
            <a:r>
              <a:rPr b="0" lang="en-US" sz="2800" spc="-1" strike="noStrike">
                <a:solidFill>
                  <a:srgbClr val="ff3300"/>
                </a:solidFill>
                <a:latin typeface="Script MT Bol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Script MT Bold"/>
              </a:rPr>
              <a:t>       </a:t>
            </a:r>
            <a:r>
              <a:rPr b="1" lang="en-US" sz="2800" spc="-1" strike="noStrike">
                <a:solidFill>
                  <a:srgbClr val="ff3300"/>
                </a:solidFill>
                <a:latin typeface="Script MT Bold"/>
              </a:rPr>
              <a:t>Cine nu intelege rostul educatiei este un analfabet. El trebuie educa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Script MT Bold"/>
              </a:rPr>
              <a:t>  </a:t>
            </a:r>
            <a:r>
              <a:rPr b="1" lang="en-US" sz="3200" spc="-1" strike="noStrike">
                <a:solidFill>
                  <a:srgbClr val="339933"/>
                </a:solidFill>
                <a:latin typeface="Script MT Bold"/>
              </a:rPr>
              <a:t>Cine se preface c</a:t>
            </a:r>
            <a:r>
              <a:rPr b="1" lang="ro-RO" sz="3200" spc="-1" strike="noStrike">
                <a:solidFill>
                  <a:srgbClr val="339933"/>
                </a:solidFill>
                <a:latin typeface="Script MT Bold"/>
              </a:rPr>
              <a:t>ă</a:t>
            </a:r>
            <a:r>
              <a:rPr b="1" lang="en-US" sz="3200" spc="-1" strike="noStrike">
                <a:solidFill>
                  <a:srgbClr val="339933"/>
                </a:solidFill>
                <a:latin typeface="Script MT Bold"/>
              </a:rPr>
              <a:t> nu </a:t>
            </a:r>
            <a:r>
              <a:rPr b="1" lang="ro-RO" sz="3200" spc="-1" strike="noStrike">
                <a:solidFill>
                  <a:srgbClr val="339933"/>
                </a:solidFill>
                <a:latin typeface="Script MT Bold"/>
              </a:rPr>
              <a:t>î</a:t>
            </a:r>
            <a:r>
              <a:rPr b="1" lang="en-US" sz="3200" spc="-1" strike="noStrike">
                <a:solidFill>
                  <a:srgbClr val="339933"/>
                </a:solidFill>
                <a:latin typeface="Script MT Bold"/>
              </a:rPr>
              <a:t>ntelege rostul educatiei este periculos . Trebuie </a:t>
            </a:r>
            <a:r>
              <a:rPr b="1" lang="ro-RO" sz="3200" spc="-1" strike="noStrike">
                <a:solidFill>
                  <a:srgbClr val="339933"/>
                </a:solidFill>
                <a:latin typeface="Script MT Bold"/>
              </a:rPr>
              <a:t>î</a:t>
            </a:r>
            <a:r>
              <a:rPr b="1" lang="en-US" sz="3200" spc="-1" strike="noStrike">
                <a:solidFill>
                  <a:srgbClr val="339933"/>
                </a:solidFill>
                <a:latin typeface="Script MT Bold"/>
              </a:rPr>
              <a:t>ndeparta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Script MT Bold"/>
              </a:rPr>
              <a:t>    </a:t>
            </a:r>
            <a:r>
              <a:rPr b="1" lang="en-US" sz="3200" spc="-1" strike="noStrike">
                <a:solidFill>
                  <a:srgbClr val="cc00cc"/>
                </a:solidFill>
                <a:latin typeface="Script MT Bold"/>
              </a:rPr>
              <a:t>Pare dur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Script MT Bold"/>
              </a:rPr>
              <a:t>      </a:t>
            </a:r>
            <a:r>
              <a:rPr b="1" lang="en-US" sz="3200" spc="-1" strike="noStrike">
                <a:solidFill>
                  <a:srgbClr val="cc00cc"/>
                </a:solidFill>
                <a:latin typeface="Script MT Bold"/>
              </a:rPr>
              <a:t>Fi</a:t>
            </a:r>
            <a:r>
              <a:rPr b="1" lang="ro-RO" sz="3200" spc="-1" strike="noStrike">
                <a:solidFill>
                  <a:srgbClr val="cc00cc"/>
                </a:solidFill>
                <a:latin typeface="Script MT Bold"/>
              </a:rPr>
              <a:t>ţ</a:t>
            </a:r>
            <a:r>
              <a:rPr b="1" lang="en-US" sz="3200" spc="-1" strike="noStrike">
                <a:solidFill>
                  <a:srgbClr val="cc00cc"/>
                </a:solidFill>
                <a:latin typeface="Script MT Bold"/>
              </a:rPr>
              <a:t>i f</a:t>
            </a:r>
            <a:r>
              <a:rPr b="1" lang="ro-RO" sz="3200" spc="-1" strike="noStrike">
                <a:solidFill>
                  <a:srgbClr val="cc00cc"/>
                </a:solidFill>
                <a:latin typeface="Script MT Bold"/>
              </a:rPr>
              <a:t>ă</a:t>
            </a:r>
            <a:r>
              <a:rPr b="1" lang="en-US" sz="3200" spc="-1" strike="noStrike">
                <a:solidFill>
                  <a:srgbClr val="cc00cc"/>
                </a:solidFill>
                <a:latin typeface="Script MT Bold"/>
              </a:rPr>
              <a:t>r</a:t>
            </a:r>
            <a:r>
              <a:rPr b="1" lang="ro-RO" sz="3200" spc="-1" strike="noStrike">
                <a:solidFill>
                  <a:srgbClr val="cc00cc"/>
                </a:solidFill>
                <a:latin typeface="Script MT Bold"/>
              </a:rPr>
              <a:t>ă</a:t>
            </a:r>
            <a:r>
              <a:rPr b="1" lang="en-US" sz="3200" spc="-1" strike="noStrike">
                <a:solidFill>
                  <a:srgbClr val="cc00cc"/>
                </a:solidFill>
                <a:latin typeface="Script MT Bold"/>
              </a:rPr>
              <a:t> grij</a:t>
            </a:r>
            <a:r>
              <a:rPr b="1" lang="ro-RO" sz="3200" spc="-1" strike="noStrike">
                <a:solidFill>
                  <a:srgbClr val="cc00cc"/>
                </a:solidFill>
                <a:latin typeface="Script MT Bold"/>
              </a:rPr>
              <a:t>ă</a:t>
            </a:r>
            <a:r>
              <a:rPr b="1" lang="en-US" sz="3200" spc="-1" strike="noStrike">
                <a:solidFill>
                  <a:srgbClr val="cc00cc"/>
                </a:solidFill>
                <a:latin typeface="Script MT Bold"/>
              </a:rPr>
              <a:t>, sunt figuri de sti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Trist este c</a:t>
            </a:r>
            <a:r>
              <a:rPr b="1" lang="ro-RO" sz="2800" spc="-1" strike="noStrike">
                <a:solidFill>
                  <a:srgbClr val="993300"/>
                </a:solidFill>
                <a:latin typeface="Comic Sans MS"/>
              </a:rPr>
              <a:t>ă</a:t>
            </a: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 unii elevi au luat de bun</a:t>
            </a:r>
            <a:r>
              <a:rPr b="1" lang="ro-RO" sz="2800" spc="-1" strike="noStrike">
                <a:solidFill>
                  <a:srgbClr val="993300"/>
                </a:solidFill>
                <a:latin typeface="Comic Sans MS"/>
              </a:rPr>
              <a:t>ă</a:t>
            </a: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 aceast</a:t>
            </a:r>
            <a:r>
              <a:rPr b="1" lang="ro-RO" sz="2800" spc="-1" strike="noStrike">
                <a:solidFill>
                  <a:srgbClr val="993300"/>
                </a:solidFill>
                <a:latin typeface="Comic Sans MS"/>
              </a:rPr>
              <a:t>ă</a:t>
            </a: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 inutilitate a scolii </a:t>
            </a:r>
            <a:r>
              <a:rPr b="1" lang="ro-RO" sz="2800" spc="-1" strike="noStrike">
                <a:solidFill>
                  <a:srgbClr val="993300"/>
                </a:solidFill>
                <a:latin typeface="Comic Sans MS"/>
              </a:rPr>
              <a:t>î</a:t>
            </a:r>
            <a:r>
              <a:rPr b="1" lang="en-US" sz="2800" spc="-1" strike="noStrike">
                <a:solidFill>
                  <a:srgbClr val="993300"/>
                </a:solidFill>
                <a:latin typeface="Comic Sans MS"/>
              </a:rPr>
              <a:t>n viata lor</a:t>
            </a:r>
            <a:r>
              <a:rPr b="0" lang="en-US" sz="2800" spc="-1" strike="noStrike">
                <a:solidFill>
                  <a:srgbClr val="9933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 txBox="1"/>
          <p:nvPr/>
        </p:nvSpPr>
        <p:spPr>
          <a:xfrm>
            <a:off x="533520" y="5791320"/>
            <a:ext cx="8610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or veni si vremuri bune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828800" y="3146400"/>
            <a:ext cx="6553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fiti fara grija -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Bibliografi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ffffff"/>
                </a:solidFill>
                <a:latin typeface="Tahoma"/>
              </a:rPr>
              <a:t>Powered by </a:t>
            </a:r>
            <a:r>
              <a:rPr b="0" lang="ro-RO" sz="14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http</a:t>
            </a:r>
            <a:r>
              <a:rPr b="0" lang="ro-RO" sz="14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://</a:t>
            </a:r>
            <a:r>
              <a:rPr b="0" lang="ro-RO" sz="14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www.referat.ro</a:t>
            </a:r>
            <a:r>
              <a:rPr b="0" lang="ro-RO" sz="14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/</a:t>
            </a:r>
            <a:r>
              <a:rPr b="0" lang="ro-RO" sz="1400" spc="-1" strike="noStrike">
                <a:solidFill>
                  <a:srgbClr val="ffffff"/>
                </a:solidFill>
                <a:latin typeface="Tahoma"/>
              </a:rPr>
              <a:t>cel mai tare site cu referat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ww.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vz.ro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/detalii/stiri/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ziua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mondiala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ducatiei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..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o.portal –ghidul tau pe internet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F. Sudre,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Drept European şi Internaţional al Drepturilor Omului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ditura Polirom, Bucureşti, 2006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 Gy. Fabian,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Drept Instituţional Comunitar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, Ediţia a III-a, Editur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fera Juridică, Cluj-Napoca, 2008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. Chiriţă,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Convenţia Europeană a Drepturilor Omului – Comentari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şi Explicaţii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, Ediţia a II-a, Editura C.H. BECK, Bucureşti, 2008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. Chiriţă,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Curtea Europeană a Drepturilor Omului – Culegere d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Hotărâri 2004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, Editura C.H. Beck, Bucureşti, 2007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R. Chiriţă,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Curtea Europeană a Drepturilor Omului Culegere d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Hotărâri 2006,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ditura C.H. Beck, Bucureşti, 2007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I. SURSE INTERNE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 http://cmiskp.echr.coe.int/tkp197/view.asp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item=1&amp;portal=hbkm&amp;action=html&amp;highlight=right%20|%20t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%20|%20education&amp;sessionid=52144364&amp;skin=hudoc-e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 http://cmiskp.echr.coe.int/tkp197/portal.asp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essionId=52326188&amp;skin=hudoc-en&amp;action=reques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 http://eurlex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europa.eu/ro/treaties/dat/32007X1214/htm/C2007303RO.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000101.ht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5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5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0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0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0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0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0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50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0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0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0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0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0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0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0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0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50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3384000" y="3109320"/>
            <a:ext cx="6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0" y="-125280"/>
            <a:ext cx="3124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Rockwell"/>
              </a:rPr>
              <a:t>Educația este un tip particular de acțiune umană, o intervenție sau direcționare, o categorie fundamentală a pedagogie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-838080" y="-2286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152280" y="-972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pt-BR" sz="2400" spc="-1" strike="noStrike" u="sng">
                <a:solidFill>
                  <a:srgbClr val="ebf25a"/>
                </a:solidFill>
                <a:uFillTx/>
                <a:latin typeface="Arial"/>
                <a:hlinkClick r:id="rId2"/>
              </a:rPr>
              <a:t>Platon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definea educația ca fiind „arta de a forma bunele deprinderi sau de a dezvolta aptitudinile native pentru virtute ale acelora care dispun de ele.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 rot="10832400">
            <a:off x="1060200" y="5276160"/>
            <a:ext cx="507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-7621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2819520" y="531000"/>
            <a:ext cx="5333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cc"/>
                </a:solidFill>
                <a:latin typeface="Rockwell"/>
              </a:rPr>
              <a:t> </a:t>
            </a:r>
            <a:r>
              <a:rPr b="1" lang="pt-BR" sz="3600" spc="-1" strike="noStrike">
                <a:solidFill>
                  <a:srgbClr val="0000cc"/>
                </a:solidFill>
                <a:latin typeface="Times New Roman"/>
              </a:rPr>
              <a:t>1. Educaţia este o cultură a caracterului, o obişnuinţă contra naturii, dar şi singura care-i distinge pe oameni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3600" spc="-1" strike="noStrike">
                <a:solidFill>
                  <a:srgbClr val="0000cc"/>
                </a:solidFill>
                <a:latin typeface="Times New Roman"/>
              </a:rPr>
              <a:t>2.Educaţia</a:t>
            </a:r>
            <a:r>
              <a:rPr b="0" lang="pt-B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3600" spc="-1" strike="noStrike">
                <a:solidFill>
                  <a:srgbClr val="0000cc"/>
                </a:solidFill>
                <a:latin typeface="Times New Roman"/>
              </a:rPr>
              <a:t>este o artă, care face să treacă conştientul în subconştient, este un fapt al şcolii, şi al unei virtuţi, pe care o porţi cu tine</a:t>
            </a:r>
            <a:r>
              <a:rPr b="1" lang="pt-BR" sz="3600" spc="-1" strike="noStrike">
                <a:solidFill>
                  <a:srgbClr val="9966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-380880" y="243360"/>
            <a:ext cx="9524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e ne cere Europa în Educaţie până în 2020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1905120" y="68040"/>
            <a:ext cx="7467480" cy="68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ccesul la educaţie şi formare de înaltă calitate este fundamental pentru afirmarea Europei ca şi societate a cunoaşterii şi ca actor de importanţă majoră pe scena unei economii mondiale globaliz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olitica în materie de educaţie este stabilită de fiecare stat membru în par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entru perioada 2007-2013, UE a alocat aproximativ 7 miliarde de euro pentru acţiunile dedicate învăţării de-a lungul vieţii. Principalele programe su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Leonardo da Vinc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Erasmus </a:t>
            </a:r>
            <a:r>
              <a:rPr b="1" lang="it-IT" sz="2000" spc="-1" strike="noStrike" u="sng">
                <a:solidFill>
                  <a:srgbClr val="ffff00"/>
                </a:solidFill>
                <a:uFillTx/>
                <a:latin typeface="Tahoma"/>
              </a:rPr>
              <a:t>Grundtvi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ff00"/>
                </a:solidFill>
                <a:uFillTx/>
                <a:latin typeface="Tahoma"/>
              </a:rPr>
              <a:t>Comenius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2971800" y="-228600"/>
            <a:ext cx="6400800" cy="80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     </a:t>
            </a:r>
            <a:r>
              <a:rPr b="1" lang="ro-RO" sz="3600" spc="-1" strike="noStrike" u="sng">
                <a:solidFill>
                  <a:srgbClr val="000000"/>
                </a:solidFill>
                <a:uFillTx/>
                <a:latin typeface="Tahoma"/>
              </a:rPr>
              <a:t>Activităţi indirecte în spijinul educăr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600" spc="-1" strike="noStrike">
                <a:solidFill>
                  <a:srgbClr val="0000cc"/>
                </a:solidFill>
                <a:latin typeface="Tahoma"/>
              </a:rPr>
              <a:t>comemorări sau festivităţ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cc"/>
                </a:solidFill>
                <a:latin typeface="Tahoma"/>
              </a:rPr>
              <a:t>- şcoala părinţil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cc"/>
                </a:solidFill>
                <a:latin typeface="Tahoma"/>
              </a:rPr>
              <a:t>- şedinţa cu părinţ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cc"/>
                </a:solidFill>
                <a:latin typeface="Tahoma"/>
              </a:rPr>
              <a:t>- consultaţii pentru părinţ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00cc"/>
                </a:solidFill>
                <a:latin typeface="Tahoma"/>
              </a:rPr>
              <a:t>- invitaţi- personalităţi, reprezentanţi ai unor instituţii culturale, sportive, medicale, organizaţii socio-profesiona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5:30:12Z</dcterms:created>
  <dc:creator>daniela</dc:creator>
  <dc:description/>
  <dc:language>en-US</dc:language>
  <cp:lastModifiedBy>daniela</cp:lastModifiedBy>
  <dcterms:modified xsi:type="dcterms:W3CDTF">2011-03-30T13:02:19Z</dcterms:modified>
  <cp:revision>115</cp:revision>
  <dc:subject/>
  <dc:title>Diapozitivul 1</dc:title>
</cp:coreProperties>
</file>